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CD2C-A3CF-4F29-9D86-02C1A317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4599-10B3-4EF4-B388-0913AC31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8750-8DAE-41CA-9B17-B806D4A4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4F97-4F9C-4295-9795-E4AE12EC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6798-615B-430D-9F88-03D06B53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3F1B-D39C-44BB-9327-0F441601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9E01-D265-4524-B629-1EE0D1C9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3FE8-A1B9-40CD-B0B4-87BD894D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EFAC-038B-4E5F-9B1D-3CEF0262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B81B-D389-4487-8838-F9F813D2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BBA3-4B98-4CC0-B295-A812FBA4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CE33-7B99-47F7-AC69-F95EEE3E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8126-AFBF-43DD-9EEA-7FAA120F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477E-4253-4C54-A5E5-F50DC302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E379-DF27-4A75-8C4B-3B08642B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9011-97C7-4DDC-A373-80BB86ABD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6A4E-8FD5-4410-8E54-CE8FB8700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E884-8D9C-4049-8753-0A636910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A037-45AB-4C77-9E90-808118ED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3D74-A731-4CF7-A0FA-98A18615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1CFB-76F2-4F23-88BF-4D5B19C0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3F3A-2875-49B2-95E6-F44D2BB7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63DA-755B-4526-A4EA-3442981C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7665-61F5-4905-AECA-7BCFAE67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CD78-E3B5-4525-9D50-F290C099F08A}" type="datetime">
              <a:rPr b="0" lang="zh-CN" sz="1000" spc="-1" strike="noStrike">
                <a:solidFill>
                  <a:srgbClr val="ffffff"/>
                </a:solidFill>
                <a:latin typeface="Tahoma"/>
                <a:ea typeface="宋体"/>
              </a:rPr>
              <a:t>26/7/31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C53A-061F-4A0A-BB0D-FF5207AA55E6}" type="slidenum">
              <a:rPr b="0" lang="zh-CN" sz="10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EE45-A102-4BE7-90F8-50AC978BCCD9}" type="datetime">
              <a:rPr b="0" lang="zh-CN" sz="1000" spc="-1" strike="noStrike">
                <a:solidFill>
                  <a:srgbClr val="ffffff"/>
                </a:solidFill>
                <a:latin typeface="Tahoma"/>
                <a:ea typeface="宋体"/>
              </a:rPr>
              <a:t>26/7/31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7312-141D-404E-B21D-89A4228F65E7}" type="slidenum">
              <a:rPr b="0" lang="zh-CN" sz="10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Team Lefthook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	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Michelle Williams-Dav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Lu Y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Ali As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A68D-2093-4DCC-B99E-176099B9767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4AFC5B1-C3CA-4CF5-AB75-7CE7292CCD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Princip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宋体"/>
              </a:rPr>
              <a:t>Insure that the new design can achieve the expected go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宋体"/>
              </a:rPr>
              <a:t>Provide transparency of the environment to us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A2BE-2809-41DF-B0A9-9C53EE32B87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98A0EF-920D-40BB-B72A-5743326483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Problem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The floor plan of the new hospital seems complicat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宋体"/>
              </a:rPr>
              <a:t>Design company proposes to use single entrance for different department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宋体"/>
              </a:rPr>
              <a:t>The entire hospital will move into the new site over one weeken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4C9D-A4B0-4EE3-8EC1-91C78CBBA37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52FB94-3529-4343-BF85-637BD47ADD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Solu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宋体"/>
              </a:rPr>
              <a:t>Interactive virtual enviro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宋体"/>
              </a:rPr>
              <a:t>To test wayfinding performance for the proposed desig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宋体"/>
              </a:rPr>
              <a:t>To train staff members and visitors to obtain adequate spatial information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69A5-8E0A-4D93-9326-9F96B72E71D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9E945A-1BCD-4C37-A774-054464C326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Evidence  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  <a:ea typeface="宋体"/>
              </a:rPr>
              <a:t>the influence of 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  <a:ea typeface="宋体"/>
              </a:rPr>
              <a:t>complexity of floor plan configuration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2640" y="5638680"/>
            <a:ext cx="4267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Weisman (1979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3048120" cy="3809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rcRect l="12810" t="0" r="31672" b="23955"/>
          <a:stretch/>
        </p:blipFill>
        <p:spPr>
          <a:xfrm>
            <a:off x="4648320" y="1905120"/>
            <a:ext cx="4267080" cy="2735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800600" y="4724280"/>
            <a:ext cx="4343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floor plan of new hospi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40AF-6D9D-4B81-B526-C145081CAA6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DB6193-B671-4861-918C-B20CA69FC4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  <a:ea typeface="宋体"/>
              </a:rPr>
              <a:t>Evidence 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  <a:ea typeface="宋体"/>
              </a:rPr>
              <a:t>research trend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066680" y="1981080"/>
          <a:ext cx="7315200" cy="4692600"/>
        </p:xfrm>
        <a:graphic>
          <a:graphicData uri="http://schemas.openxmlformats.org/drawingml/2006/table">
            <a:tbl>
              <a:tblPr/>
              <a:tblGrid>
                <a:gridCol w="2590920"/>
                <a:gridCol w="1447920"/>
                <a:gridCol w="3276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auth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ye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Research desig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J. Weism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19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field-experi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J. Peponis, C. Zimr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19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field-experi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M. J. O'Neil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19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field-experiment/ virtual environ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S. Haq and C. Zimr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2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field-experi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W. H. K. Lam, M. L. Ta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2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field-experi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Baskaya, A. Wilson and Y. Z. C. Ozc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2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field-experi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S. Werner and L. E. Schindl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2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virtual environ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J. M. Wiener, A. Schnee and H. A. Mallo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2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virtual environ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E. Cubukc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20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virtual environ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Jansen-Osma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virtual environ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2F39-8BBC-4D71-B489-6103F2B77B8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8E6BB1-FAC5-4F0A-9912-113D86368F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  <a:ea typeface="宋体"/>
              </a:rPr>
              <a:t>Evidence </a:t>
            </a:r>
            <a:br>
              <a:rPr sz="4000"/>
            </a:br>
            <a:r>
              <a:rPr b="1" lang="en-US" sz="3200" spc="-1" strike="noStrike">
                <a:solidFill>
                  <a:srgbClr val="eaeaea"/>
                </a:solidFill>
                <a:latin typeface="Tahoma"/>
                <a:ea typeface="宋体"/>
              </a:rPr>
              <a:t>validity of virtual environment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similar spatial performances for people navig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real-world environ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equivalent virtual environmen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People with virtual environ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training outperform people without tra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  <a:ea typeface="宋体"/>
              </a:rPr>
              <a:t>times to perform route task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  <a:ea typeface="宋体"/>
              </a:rPr>
              <a:t>left-right directional judgme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  <a:ea typeface="宋体"/>
              </a:rPr>
              <a:t>Map Sketch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宋体"/>
              </a:rPr>
              <a:t>ansen-Osmann, P., &amp; Wiedenbauer, G. (2004) , Ruddle, R. A., &amp; Lessells, S. (2006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宋体"/>
              </a:rPr>
              <a:t>Hunt, M. E. (1984), Foreman, N., et al, (2005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7C73-9FF8-44E9-8CFC-02385C608DC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2C8506-3B27-4E02-ABC7-C2941550D4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Solution      </a:t>
            </a:r>
            <a:r>
              <a:rPr b="1" lang="en-US" sz="3200" spc="-1" strike="noStrike">
                <a:solidFill>
                  <a:srgbClr val="eaeaea"/>
                </a:solidFill>
                <a:latin typeface="Tahoma"/>
                <a:ea typeface="宋体"/>
              </a:rPr>
              <a:t>Unreal Engine 2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Production-proven game development fra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objects from 3DS Max &amp; May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Networking and multiple us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Voice communication &amp; user inter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B87A-83C2-4AC6-87D3-B12C790C411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AE05D-84C8-4B26-8CEB-5968FE3667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3. Information boar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  <a:ea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52C6-73C3-4EF8-942F-6061EC3D7C5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80DCF20-0151-425D-9D5F-4D611C3D08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Princip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Provide transparency of processes to us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3. Patient centered-desig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3DD6-E3F7-4B3D-BCEE-3493B746A73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0DD68-AB14-4D88-83FB-31AF48BF4D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Proble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The patients and parents are not given information about the future care delivery and a feeling of an inability to control surroundings is fel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B9F1-BA2C-449F-A645-76B17F00782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F96B3-1E76-4348-A017-D4A3054984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1. Social suppor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  <a:ea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F67F-0CB2-41D8-9C33-145BBC474E4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7BF8670-8771-4410-8A19-E060ED95B5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Evidence: Children’s Hospital of L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800 visits record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25% dissatisf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Lack of warmth and friendli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Failure to address patient concer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Explanation of diagnosis and causation of ill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Use of medical “jargo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C8A5-0624-4562-AC7E-1299A207DC4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EE93C9-C3E1-42B0-9C06-006BA58422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Solu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16642" t="31483" r="25001" b="10370"/>
          <a:stretch/>
        </p:blipFill>
        <p:spPr>
          <a:xfrm>
            <a:off x="1546200" y="1981080"/>
            <a:ext cx="65833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9851-C778-4D14-BD3C-D48EF1D4277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4FD340-7493-4F5A-B97C-E1421FCC50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Auditory and Visual Learn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Auditory and visual signals combin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Much better as a combi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Better results in a study on 60 childr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Assistive Technology Research Institu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77F8-DFF4-47F5-8BC8-B22B05FDC53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A1C743-0278-41DC-B8FA-F41DDC64E5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Princip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宋体"/>
              </a:rPr>
              <a:t>Ensure commitment to education, research and community service as a means of discovering new and better methods to meet the unique health care needs of children within the three centers of excelle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宋体"/>
              </a:rPr>
              <a:t>Provide health care of children and families in a healing environment that emphasizes their quality of lif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0B51-E32E-4FAC-925E-BBFA148B54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C18CCC-0F79-4E39-8A41-A3ED666F0F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Problem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	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Child advocacy patients have mental and physical health need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Georgia is not doing its part in helping children with the fact that Georgia ranks 41st in meeting its children’s needs. (georgiavoices.or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Child advocacy patients will not be accompanied to the hospital with a parent and/or famil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6F52-CE84-4A86-8A7F-303EC8B01D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3E613-1532-4103-8826-275876BDDE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  <a:ea typeface="宋体"/>
              </a:rPr>
              <a:t>Evidence-Need for child advocacy dedication in Georgia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Georgia has a highly ranked economy in national comparis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Georgia ranks 41st in meeting its children’s needs according the Kids Count* report issued annually by the Annie E. Casey Foundatio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5334120"/>
            <a:ext cx="28191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Information fro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Kids Count annual re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358128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C3CC-6A28-4CC3-810B-C0E913AB5D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91D8F2-B7B3-42DB-B4DD-9F2663C83D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  <a:ea typeface="宋体"/>
              </a:rPr>
              <a:t>Evidence-Solutions for stress managemen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Ambient experience” reduces the use of sedation for pediatric patients as a result of environmental stres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Kathy Szumanski,  Renee Horton. (2007). The "ambient experience": Pediatric patients and diagnostic testing. Nursing Management, 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38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(1), 32-35.  Retrieved October 6, 2007, from ABI/INFORM Global databas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37CE-AE3C-444E-A8BC-82DF21C6D5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75D4B-C021-44BE-B994-BB146F9538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Solution-Goal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Provide a safe and healing environment of social suppor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Social support between the patients and also the patients with the clinicia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Appeal to all ages of pediatric patients in the hospital with child advocacy nee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Ambient experience” –interactive and flexible design specifically for individual patient’s preferenc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Sectioned and open spaces to appeal to all ages of patie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915080" y="2181240"/>
            <a:ext cx="3695400" cy="371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4CEF-ECC3-4E35-B046-57AE845BAF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21EE81-05ED-49D3-87FB-3CBE33813E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  <a:ea typeface="宋体"/>
              </a:rPr>
              <a:t>Solution-Social Support Center</a:t>
            </a:r>
            <a:r>
              <a:rPr b="1" lang="en-US" sz="3200" spc="-1" strike="noStrike">
                <a:solidFill>
                  <a:srgbClr val="eaeaea"/>
                </a:solidFill>
                <a:latin typeface="Tahoma"/>
                <a:ea typeface="宋体"/>
              </a:rPr>
              <a:t>	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World of Dreams Center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Motto: Provide children a “safe space” through a social support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The future belongs to those who believe in the beauty of their dreams.”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~Eleanor Roosevel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0D08-04EC-45B5-83C7-BFF64798D0F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886B33-DC48-4E49-9930-D2C7B30F18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2. Virtual environ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  <a:ea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7D72-00B2-4835-93CF-F2E6ED4D2C6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9359E63-1C64-4B8B-9902-2C681A6AC7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22:05:42Z</dcterms:created>
  <dc:creator>Ron Davis</dc:creator>
  <dc:description/>
  <cp:keywords/>
  <dc:language>en-US</dc:language>
  <cp:lastModifiedBy>Lu, Yi</cp:lastModifiedBy>
  <dcterms:modified xsi:type="dcterms:W3CDTF">2007-10-11T20:24:33Z</dcterms:modified>
  <cp:revision>17</cp:revision>
  <dc:subject/>
  <dc:title>Team Lefthook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037921033</vt:lpwstr>
  </property>
</Properties>
</file>